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2559E5-9D52-4416-A8E1-D2D30F218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FDED94-9E12-4336-A61A-A46EA9187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FCD-FC6E-48C7-9DAC-43A4E0AA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7C6-AA07-4081-8C0D-639EF6F3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D8B-B213-4CB3-8F8F-196015FC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A10-81AA-4B30-9F7C-8CF80CD8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A72C-6A9A-4848-8702-F6AB5718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DCAF-F7B9-4CE6-866A-3CD9C94A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9219-A120-4190-8656-BD21EA1E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7B6A-DC7F-47BF-AA13-F03EDDFF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8E53-2923-45CD-9EA7-2DF62206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C6EB-A99C-4F91-B5E2-405FA5BB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E200-347E-4D04-8E00-F25AD42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D5A-0B8F-43AA-9395-90E195EE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0454-D8BE-437E-BA47-72732403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BD12-0E5F-48E1-9517-60921E4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B41D-4B7F-46E3-A50A-CDCCD978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FC68-9398-4EB7-8457-5D192A7E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0678-75F7-4E30-A81A-A62B6B83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F358-B51F-45D2-8935-5994B178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E80C-82E9-427E-8C44-C4460E8B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3B9D-0490-4AC1-A52D-645EDFE3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35A9-A00C-4ADE-A4C0-7ABA5D10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C451C-B69D-4EA3-B01D-1FCC94D7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CD0-CAD1-4344-B878-106787E2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8780-083E-41C6-99D5-EAE6E530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C07A-89A9-4FC2-8059-FB5533D3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3D36-AD56-4DC1-BC09-7EE893C1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1F5C9-3F3C-4328-911E-F64CB527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7AD1-E211-4B14-805F-48315C13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87AC-1EF3-4C04-9687-364A9F3C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3DA5-70F4-4C67-B0B6-5EBBB67A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3B25C-31AA-441A-9CC4-26ECFCD8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C85D-E27E-409E-BDAB-7F4164B7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E2A4D-6510-43DD-A11A-A3EBEAA1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C95-9698-4724-AE03-F2D525C6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8EEBA-1E53-4EF1-827C-866D2DE3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4FDEF-ABBB-4711-8662-1FDF185D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C2261-B87E-454B-A003-D0004FFC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27EF6-1DB4-4F73-9ED2-B0A5B626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825C-05E8-4B69-848E-6E3A62E2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DCFB-D4CB-4E20-A862-DFF42E5B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0833-AE0B-4009-B71E-4C09D7F9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22DFA-601C-4CCB-9622-E051152F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3F1D-CD01-41DF-9B34-C01518DA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80E-4E37-4625-B71C-2E401E65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659-048D-4BF9-96A8-B44294EA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5DB-932B-4AAA-B1C8-7D95F27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DBD-335A-49E4-A215-FA0684F8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E26-325D-4CA6-84A2-39FE0F1A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F522F4-D31D-4A1F-8F8F-F2598136C16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362D5D-545E-4E53-B181-16AD0D79587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9880" y="1681200"/>
            <a:ext cx="51573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839880" y="2505240"/>
            <a:ext cx="5157360" cy="36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172200" y="1681200"/>
            <a:ext cx="518292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172200" y="2505240"/>
            <a:ext cx="5182920" cy="36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6DF1A0-B0F4-441C-BA3A-C9272E3ABDC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8DA1CC-E1A4-4068-ABE5-B641C024A99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92800" y="870840"/>
            <a:ext cx="10362960" cy="24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1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Update on Yucca Mountain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ansportation Impac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n  Native American Communities </a:t>
            </a:r>
            <a:br>
              <a:rPr sz="9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850400" y="361404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b Halst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fice of the Gover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vada Agency for Nuclea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rch 26,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4000"/>
          </a:bodyPr>
          <a:p>
            <a:pPr indent="0">
              <a:lnSpc>
                <a:spcPct val="90000"/>
              </a:lnSpc>
              <a:buNone/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Shipments to Yucca Mounta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DOE proposed A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ip 9,495 rail casks (2,800 trains) &amp; 2,650 truck casks over 50 year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No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epository: 21,909 rail casks (about 6,700 trains) &amp; 5,025 truck cask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verage 1-3 trains (3-5 casks per train) &amp;   1-2 trucks (1 cask per truck) per week for 50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ery day, for 50 years, one or more loaded casks on rail or road, from 76 shipping sites to a single national repository or storage s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hipping Sites and Yucca M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105920" y="1428120"/>
            <a:ext cx="96879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Las Vegas [Converted].png"/>
          <p:cNvPicPr/>
          <p:nvPr/>
        </p:nvPicPr>
        <p:blipFill>
          <a:blip r:embed="rId1"/>
          <a:stretch/>
        </p:blipFill>
        <p:spPr>
          <a:xfrm>
            <a:off x="-1625760" y="838080"/>
            <a:ext cx="12191760" cy="6373440"/>
          </a:xfrm>
          <a:prstGeom prst="rect">
            <a:avLst/>
          </a:prstGeom>
          <a:ln w="9525">
            <a:noFill/>
          </a:ln>
        </p:spPr>
      </p:pic>
      <p:sp>
        <p:nvSpPr>
          <p:cNvPr id="206" name="Text Box 7"/>
          <p:cNvSpPr/>
          <p:nvPr/>
        </p:nvSpPr>
        <p:spPr>
          <a:xfrm>
            <a:off x="7416720" y="2743200"/>
            <a:ext cx="4774680" cy="1461240"/>
          </a:xfrm>
          <a:prstGeom prst="rect">
            <a:avLst/>
          </a:prstGeom>
          <a:gradFill rotWithShape="0">
            <a:gsLst>
              <a:gs pos="83000">
                <a:srgbClr val="5b9bd5"/>
              </a:gs>
              <a:gs pos="100000">
                <a:srgbClr val="96ab94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ted in Las Vegas within 0.5 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800 m) of UPRR Route to Calien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4 Hotels, 49,000 Hotel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,000 Visitors &amp;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518240" y="152280"/>
            <a:ext cx="4571640" cy="1370160"/>
          </a:xfrm>
          <a:prstGeom prst="rect">
            <a:avLst/>
          </a:prstGeom>
          <a:gradFill rotWithShape="0">
            <a:gsLst>
              <a:gs pos="0">
                <a:srgbClr val="9ac2f5"/>
              </a:gs>
              <a:gs pos="100000">
                <a:srgbClr val="c1d7f7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Rail through Las Ve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to Yucca Mountain via Ca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Up to 110 trainload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-31320" y="0"/>
            <a:ext cx="64951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Unacceptable Las Ve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ansportation Imp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16560" y="4191120"/>
            <a:ext cx="33480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0% of Truck Shi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 or 2 trucks p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5713920" y="4800600"/>
            <a:ext cx="4701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20,000 Clark County res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ve within the 0.5 mil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influence (ROI) for Truck and 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hipping Sites and Tribal L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838080" y="1428120"/>
            <a:ext cx="96879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Table 3"/>
          <p:cNvGraphicFramePr/>
          <p:nvPr/>
        </p:nvGraphicFramePr>
        <p:xfrm>
          <a:off x="450720" y="167400"/>
          <a:ext cx="5666400" cy="5370120"/>
        </p:xfrm>
        <a:graphic>
          <a:graphicData uri="http://schemas.openxmlformats.org/drawingml/2006/table">
            <a:tbl>
              <a:tblPr/>
              <a:tblGrid>
                <a:gridCol w="1348200"/>
                <a:gridCol w="2940120"/>
                <a:gridCol w="1377720"/>
              </a:tblGrid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 w="648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SA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 w="648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lab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herokees of Southeast Alabama 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DA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riz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Maricopa (Ak-Chin) 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riz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avajo Nation 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lifor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ort Yuma (Quechan)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lifor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Morongo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lifor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ound Valley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lifor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gua Caliente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lifor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bazon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da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ort Hall 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c and Fox (Iowa) 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ouis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our Winds Cherokee 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DA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ouis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dais Caddo 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DA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ouis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Jena Band of Choctaw 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D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ouis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United Houma Nation 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D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Minnes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rairie Island 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ndian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ebras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maha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ev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s Vegas N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ol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28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ev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c0c8e3"/>
                      </a:solidFill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Moapa River N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c0c8e3"/>
                      </a:solidFill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 w="6480">
                      <a:solidFill>
                        <a:srgbClr val="c0c8e3"/>
                      </a:solidFill>
                    </a:lnB>
                    <a:solidFill>
                      <a:srgbClr val="3d6fc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Table 4"/>
          <p:cNvGraphicFramePr/>
          <p:nvPr/>
        </p:nvGraphicFramePr>
        <p:xfrm>
          <a:off x="6221520" y="164160"/>
          <a:ext cx="5666400" cy="4240080"/>
        </p:xfrm>
        <a:graphic>
          <a:graphicData uri="http://schemas.openxmlformats.org/drawingml/2006/table">
            <a:tbl>
              <a:tblPr/>
              <a:tblGrid>
                <a:gridCol w="1348200"/>
                <a:gridCol w="2940120"/>
                <a:gridCol w="1377720"/>
              </a:tblGrid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ew Jers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 w="648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amapough N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D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 w="6480">
                      <a:solidFill>
                        <a:srgbClr val="c0c8e3"/>
                      </a:solidFill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ew Me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avajo Nation 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ew Me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guna 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ue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ew Me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coma 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ue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ew Y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ttaraugus 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orth Caro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umbee N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D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klah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heyenne-Arapaho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T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klah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ddo-Wichita-Delaware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T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klah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hickasaw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T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klah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hoctaw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T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klah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reek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T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klah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herokee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T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fc9"/>
                    </a:solidFill>
                  </a:tcPr>
                </a:tc>
              </a:tr>
              <a:tr h="326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Ut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6480">
                      <a:solidFill>
                        <a:srgbClr val="c0c8e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c0c8e3"/>
                      </a:solidFill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iute of Utah 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c0c8e3"/>
                      </a:solidFill>
                    </a:lnB>
                    <a:solidFill>
                      <a:srgbClr val="3d6fc9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ser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6480">
                      <a:solidFill>
                        <a:srgbClr val="c0c8e3"/>
                      </a:solidFill>
                    </a:lnR>
                    <a:lnT>
                      <a:noFill/>
                    </a:lnT>
                    <a:lnB w="6480">
                      <a:solidFill>
                        <a:srgbClr val="c0c8e3"/>
                      </a:solidFill>
                    </a:lnB>
                    <a:solidFill>
                      <a:srgbClr val="3d6fc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ibes in CA, AZ NV and 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Content Placeholder 3" descr=""/>
          <p:cNvPicPr/>
          <p:nvPr/>
        </p:nvPicPr>
        <p:blipFill>
          <a:blip r:embed="rId1"/>
          <a:stretch/>
        </p:blipFill>
        <p:spPr>
          <a:xfrm>
            <a:off x="1114200" y="1321920"/>
            <a:ext cx="9084960" cy="50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Nevada De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Content Placeholder 3" descr=""/>
          <p:cNvPicPr/>
          <p:nvPr/>
        </p:nvPicPr>
        <p:blipFill>
          <a:blip r:embed="rId1"/>
          <a:stretch/>
        </p:blipFill>
        <p:spPr>
          <a:xfrm>
            <a:off x="1365840" y="1388160"/>
            <a:ext cx="9014040" cy="50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ibes De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Content Placeholder 3" descr=""/>
          <p:cNvPicPr/>
          <p:nvPr/>
        </p:nvPicPr>
        <p:blipFill>
          <a:blip r:embed="rId1"/>
          <a:stretch/>
        </p:blipFill>
        <p:spPr>
          <a:xfrm>
            <a:off x="838080" y="1202760"/>
            <a:ext cx="9841320" cy="551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ecent Develop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RC Licensing Proc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gress and Proposed Legi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E Program Develop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. Hardy’s Op-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Exists at Yucca Mountain To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144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nt Fuel and High-Level Nuclear Waste Transportation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144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acts on Native American Commun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144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ent Develop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Exists Today at Yucca Moun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cussion necessary because of misinformation presented in pro-Yucca Mountain media repor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 waste disposal tunn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 waste handling fac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 repository construction author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 railroad ac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ired BLM land withdrawa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nly  Exploratory  Tunnel Exi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nnot be used for storage or dis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493720" y="1600200"/>
            <a:ext cx="720396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9000"/>
          </a:bodyPr>
          <a:p>
            <a:pPr indent="0">
              <a:lnSpc>
                <a:spcPct val="90000"/>
              </a:lnSpc>
              <a:buNone/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afety and Environmental Ca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gainst Yucca Mounta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49280" indent="-44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site is not suitable for development as a geologic reposit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DOE license application is incomplete,  inaccurate, and no longer val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DOE Yucca Mountain transportation impacts are unaccepta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DOE environmental impact statement (EIS) does not comply with the National Environmental Policy Act (NEP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ansportation Ris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1277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0" spc="-1" strike="noStrike">
                <a:solidFill>
                  <a:srgbClr val="000000"/>
                </a:solidFill>
                <a:latin typeface="Calibri"/>
              </a:rPr>
              <a:t>Incident-free exposures to members of the public; 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0" spc="-1" strike="noStrike">
                <a:solidFill>
                  <a:srgbClr val="000000"/>
                </a:solidFill>
                <a:latin typeface="Calibri"/>
              </a:rPr>
              <a:t>Incident-free exposures to transportation workers;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0" spc="-1" strike="noStrike">
                <a:solidFill>
                  <a:srgbClr val="000000"/>
                </a:solidFill>
                <a:latin typeface="Calibri"/>
              </a:rPr>
              <a:t>Release of radioactive material as a result of the maximum reasonably foreseeable transportation accident; &amp; 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0" spc="-1" strike="noStrike">
                <a:solidFill>
                  <a:srgbClr val="000000"/>
                </a:solidFill>
                <a:latin typeface="Calibri"/>
              </a:rPr>
              <a:t>Release of radioactive material following a successful act of sabotage or terrorism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ource: Halstead and Dilger, ANS IHLRWMC 2011, Albuquerque, NM, April 10-14, 2011, Pp. 410-411. 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Spent Fuel Assemblies Are Lethally Radioactive during Transpor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Content Placeholder 3"/>
          <p:cNvGraphicFramePr/>
          <p:nvPr/>
        </p:nvGraphicFramePr>
        <p:xfrm>
          <a:off x="609480" y="1600200"/>
          <a:ext cx="10972440" cy="2405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  <a:gridCol w="2743200"/>
              </a:tblGrid>
              <a:tr h="370800">
                <a:tc>
                  <a:txBody>
                    <a:bodyPr lIns="121680" rIns="12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curies/assemb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urface Dose Rate (rem/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ethal Expo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t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70800"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6,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370800"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,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2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70800"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,6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2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370800"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lIns="121680" rIns="1216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.5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87" name="TextBox 4"/>
          <p:cNvSpPr/>
          <p:nvPr/>
        </p:nvSpPr>
        <p:spPr>
          <a:xfrm>
            <a:off x="711360" y="4343400"/>
            <a:ext cx="10667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t fuel activity and surface dose rates are provided in DOE-NRC, Waste Confidence Proceeding, Statement of Position of the U.S. Department of Energy, DOE/NE-007(April 15, 1980) Table II-4, p.II-56. NRC defines lethal dose as the dose of radiation expected to cause death to 50 percent of an exposed population within 30 days, typically 400 to 450 rem (4 to 5 sieverts) received over a very short time. See http://www.nrc.gov/reading-rm/basic-ref/glossary/lethal-dose-ld.ht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ed 2.12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hipping Cask Vulnerability in Severe Accident Fires is an Ongoing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2480" y="1461960"/>
            <a:ext cx="51573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Arthur Maze -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172200" y="1681200"/>
            <a:ext cx="518292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ltimore Rail Tunnel - 2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Content Placeholder 3" descr="collapse2.600..jpg"/>
          <p:cNvPicPr/>
          <p:nvPr/>
        </p:nvPicPr>
        <p:blipFill>
          <a:blip r:embed="rId1"/>
          <a:stretch/>
        </p:blipFill>
        <p:spPr>
          <a:xfrm>
            <a:off x="609480" y="3886200"/>
            <a:ext cx="5386680" cy="2342880"/>
          </a:xfrm>
          <a:prstGeom prst="rect">
            <a:avLst/>
          </a:prstGeom>
          <a:ln w="0">
            <a:noFill/>
          </a:ln>
        </p:spPr>
      </p:pic>
      <p:pic>
        <p:nvPicPr>
          <p:cNvPr id="192" name="Content Placeholder 3" descr="MacArthur-Maze-Mending1may07a.jpg"/>
          <p:cNvPicPr/>
          <p:nvPr/>
        </p:nvPicPr>
        <p:blipFill>
          <a:blip r:embed="rId2"/>
          <a:stretch/>
        </p:blipFill>
        <p:spPr>
          <a:xfrm>
            <a:off x="609480" y="2286000"/>
            <a:ext cx="2641320" cy="152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balt2"/>
          <p:cNvPicPr/>
          <p:nvPr/>
        </p:nvPicPr>
        <p:blipFill>
          <a:blip r:embed="rId3"/>
          <a:stretch/>
        </p:blipFill>
        <p:spPr>
          <a:xfrm>
            <a:off x="6193440" y="2851920"/>
            <a:ext cx="5388840" cy="259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98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ests Show Shipping Casks 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Vulnerable to Terrorist Att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61960"/>
            <a:ext cx="51573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uck Cask Test, 19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150600" y="1461960"/>
            <a:ext cx="518292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il Cask Test,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" descr="Impact 2 copy"/>
          <p:cNvPicPr/>
          <p:nvPr/>
        </p:nvPicPr>
        <p:blipFill>
          <a:blip r:embed="rId1"/>
          <a:stretch/>
        </p:blipFill>
        <p:spPr>
          <a:xfrm>
            <a:off x="6299280" y="3048120"/>
            <a:ext cx="5388840" cy="3029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Impact copy"/>
          <p:cNvPicPr/>
          <p:nvPr/>
        </p:nvPicPr>
        <p:blipFill>
          <a:blip r:embed="rId2"/>
          <a:stretch/>
        </p:blipFill>
        <p:spPr>
          <a:xfrm>
            <a:off x="6705720" y="2286000"/>
            <a:ext cx="2234880" cy="1256400"/>
          </a:xfrm>
          <a:prstGeom prst="rect">
            <a:avLst/>
          </a:prstGeom>
          <a:ln w="12700">
            <a:solidFill>
              <a:srgbClr val="000000"/>
            </a:solidFill>
            <a:round/>
          </a:ln>
        </p:spPr>
      </p:pic>
      <p:pic>
        <p:nvPicPr>
          <p:cNvPr id="199" name="Picture 9" descr="Attack Hole copy"/>
          <p:cNvPicPr/>
          <p:nvPr/>
        </p:nvPicPr>
        <p:blipFill>
          <a:blip r:embed="rId3"/>
          <a:stretch/>
        </p:blipFill>
        <p:spPr>
          <a:xfrm>
            <a:off x="609480" y="3429000"/>
            <a:ext cx="5386680" cy="2691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Attack Path"/>
          <p:cNvPicPr/>
          <p:nvPr/>
        </p:nvPicPr>
        <p:blipFill>
          <a:blip r:embed="rId4"/>
          <a:stretch/>
        </p:blipFill>
        <p:spPr>
          <a:xfrm>
            <a:off x="914400" y="2362320"/>
            <a:ext cx="2336400" cy="12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  <Words>739</Words>
  <Paragraphs>1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16:09:12Z</dcterms:created>
  <dc:creator>Fred Dilger</dc:creator>
  <dc:description/>
  <dc:language>en-US</dc:language>
  <cp:lastModifiedBy>Bob</cp:lastModifiedBy>
  <dcterms:modified xsi:type="dcterms:W3CDTF">2015-03-25T05:53:5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Custom</vt:lpwstr>
  </property>
  <property fmtid="{D5CDD505-2E9C-101B-9397-08002B2CF9AE}" pid="4" name="Slides">
    <vt:r8>18</vt:r8>
  </property>
</Properties>
</file>